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935-4CAC-46D2-BC26-05B0D552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1FF-7ADD-4C4B-AE67-1AEF6C6C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874-58C6-4FB1-A6E8-30A93467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651-0A97-4D71-93C3-33AB1280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9413-884D-4FDB-9111-CD2EC552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BAC-A48C-4FAF-BF7D-2958546D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D47A-87C5-42D3-BFE0-C80ECE4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A29A-1541-4486-AED2-EA11CD2E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325-210B-488C-9C4D-CD2FB31B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74A-8D34-48E7-8259-D7A97476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CF2-D396-4D91-8CD8-C5A3CED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989-7B10-4B64-8386-5F428D3A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6120-3A9B-42E6-A6B1-0AB37F6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A0E7-0F58-4BA2-847D-1D06221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AF2-BD0D-4F0F-AEC0-D5C90630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BC4D-9082-4506-A457-B99FDADC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C504-17F4-44DE-A529-D3BCC630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D4B-1C70-4F1B-B200-9F9AA0B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EC9-DF30-45D6-BAF5-A4038ECA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01E-1F78-47C5-AF25-D0AE0691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1D8-0FD8-43FA-A27D-561022E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5A3-F5AD-4306-9E58-E7386F0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B2B-1938-40BF-B40E-E550921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041-6B85-4C17-9AD1-DBD5377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770-5C74-4DC7-B85E-A7278F7CF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55DC-8532-4A54-8177-95DF1AC2C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THE REFLEXIVE VERBS…</a:t>
            </a:r>
            <a:br>
              <a:rPr sz="54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(verbes pronominaux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GARDES ENCORE UNE FOI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        réve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      réve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 / Elle / On         réve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47640" y="1700280"/>
            <a:ext cx="51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47640" y="3357720"/>
            <a:ext cx="4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76720" y="5084640"/>
            <a:ext cx="42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ke up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gets wash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up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rushes one’s teeth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évei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rosse les d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TR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ÈS FACILE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 peu plus difficile mainten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ardes encore une fo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             réveill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s         réve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195640" y="170028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U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24000" y="3357720"/>
            <a:ext cx="9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U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19280" y="5084640"/>
            <a:ext cx="428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5724360" y="2276640"/>
            <a:ext cx="3021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l est 7h1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                   lev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            dou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s parents       la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rbara et Mélodie           hab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       hab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           douch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 moi? Je        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ève aus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2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l est 7h1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n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ev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ou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s parent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a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rbara et Mélodie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b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b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v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ouch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 moi? Je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ève aus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NC,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      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E / M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    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E / T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 / ELLE / ON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E / S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V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S / ELLES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E / S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198900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2637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21300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378936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24000" y="436572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941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979640" y="333360"/>
            <a:ext cx="5256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CILE ,  NO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’EST-CE QUE C’EST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635280" y="1341360"/>
            <a:ext cx="229392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ACILE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CONNAIS 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JÀ UN EXEMP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’appeler = Je 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’appel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’autres verb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cou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l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brosser les 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Je </a:t>
            </a:r>
            <a:r>
              <a:rPr b="0" lang="en-GB" sz="3200" spc="-1" strike="noStrike">
                <a:solidFill>
                  <a:srgbClr val="ff3300"/>
                </a:solidFill>
                <a:latin typeface="Berlin Sans FB Demi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 cou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Je </a:t>
            </a:r>
            <a:r>
              <a:rPr b="0" lang="en-GB" sz="3200" spc="-1" strike="noStrike">
                <a:solidFill>
                  <a:srgbClr val="ff3300"/>
                </a:solidFill>
                <a:latin typeface="Berlin Sans FB Demi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 l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è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Je </a:t>
            </a:r>
            <a:r>
              <a:rPr b="0" lang="en-US" sz="3200" spc="-1" strike="noStrike">
                <a:solidFill>
                  <a:srgbClr val="ff3300"/>
                </a:solidFill>
                <a:latin typeface="Berlin Sans FB Demi"/>
                <a:ea typeface="Arial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 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Je </a:t>
            </a:r>
            <a:r>
              <a:rPr b="0" lang="en-US" sz="3200" spc="-1" strike="noStrike">
                <a:solidFill>
                  <a:srgbClr val="ff3300"/>
                </a:solidFill>
                <a:latin typeface="Berlin Sans FB Demi"/>
                <a:ea typeface="Arial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 brosse 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87280" y="5734080"/>
            <a:ext cx="122400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081080" cy="136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ccecff"/>
                </a:solidFill>
                <a:latin typeface="Arial"/>
              </a:rPr>
              <a:t>Donc, avec “JE”, on utilise  “ ME / M’ ”: je </a:t>
            </a:r>
            <a:r>
              <a:rPr b="0" i="1" lang="en-GB" sz="4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i="1" lang="en-GB" sz="4800" spc="-1" strike="noStrike">
                <a:solidFill>
                  <a:srgbClr val="ccecff"/>
                </a:solidFill>
                <a:latin typeface="Arial"/>
              </a:rPr>
              <a:t> réveil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T AVE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/ ELLE /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S / 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924280"/>
            <a:ext cx="2087280" cy="352908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24360" y="2706840"/>
            <a:ext cx="3168720" cy="3141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908000" y="404640"/>
            <a:ext cx="504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GARD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10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n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v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248360" cy="54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835280" y="1484280"/>
            <a:ext cx="6265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N  T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5:05:47Z</dcterms:created>
  <dc:creator>sfon</dc:creator>
  <dc:description/>
  <dc:language>en-US</dc:language>
  <cp:lastModifiedBy>Teacher</cp:lastModifiedBy>
  <dcterms:modified xsi:type="dcterms:W3CDTF">2005-01-24T20:04:47Z</dcterms:modified>
  <cp:revision>3</cp:revision>
  <dc:subject/>
  <dc:title>THE REFLEXIVE VERBS…</dc:title>
</cp:coreProperties>
</file>